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7F5-C342-4D9F-96F4-8211AC6F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FBD-E27B-4084-B980-32781818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861-2000-44B8-9562-17F3EE1B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4A1-B433-4470-9AE3-2D093465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22E-0279-49C4-A9FA-34F08CC5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014-8C91-40B0-BF5D-B5C6B071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32F-FE58-400B-8A88-74D061B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D31-78BE-4378-9E8E-62948638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D6A-F31F-4B69-99AE-55E3E100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494-12F2-4794-B0C7-6FB31C5B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BC2-E534-4EE3-A292-8019169D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C5C-85EB-4E82-9937-E962BCAF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B38-59E8-4871-9701-6C885BC11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upeni-lyceum.ru/editor/uploads/files/libr_big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-crimea.info/pictures/h_lh0BdVaTwW36DkNYSIZcp5e9gjn8QFPz_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booklya.com.ua/files/books/777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Библиотеки, энциклопеди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и словари </a:t>
            </a:r>
            <a:br>
              <a:rPr sz="6600"/>
            </a:br>
            <a:r>
              <a:rPr b="1" i="1" lang="en-US" sz="6600" spc="-1" strike="noStrike" u="sng">
                <a:solidFill>
                  <a:srgbClr val="ffffff"/>
                </a:solidFill>
                <a:uFillTx/>
                <a:latin typeface="Informal Roman"/>
              </a:rPr>
              <a:t>в Интернет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ОУ СОШ №1 г. Спас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Библиотек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реч. bibliothēkē, от biblíon — книга и thēkē — хранилище) </a:t>
            </a:r>
            <a:r>
              <a:rPr b="0" lang="ru-RU" sz="2000" spc="-1" strike="noStrike">
                <a:solidFill>
                  <a:srgbClr val="bbe0e3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то культурно-просветительное и научно вспомогательное учреждение, организующее общественное пользование произведениями печа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20 из 11634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84360" y="3645000"/>
            <a:ext cx="403236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Электронная библиотека – это распределенная информационная система, позволяющая надежно сохранять и эффективно использовать разнородные коллекции электронных документов через глобальные сети передач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в удобном д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конеч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  </a:t>
            </a: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пользователя виде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1 из 4498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3645000"/>
            <a:ext cx="41608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Российская государстве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rs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Библиотека Мо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lib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Научная электронная библиот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elibrar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Энциклопедия</a:t>
            </a:r>
            <a:r>
              <a:rPr b="1" i="1" lang="ru-RU" sz="26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от греч . enkyklios paideia - обучение по всему кругу знаний)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Informal Roman"/>
              </a:rPr>
              <a:t> </a:t>
            </a:r>
            <a:r>
              <a:rPr b="1" i="1" lang="ru-RU" sz="2800" spc="-1" strike="noStrike">
                <a:solidFill>
                  <a:srgbClr val="bbe0e3"/>
                </a:solidFill>
                <a:latin typeface="Informal Roman"/>
              </a:rPr>
              <a:t>научное или научно-популярное справочное издание, содержащее систематизированный свод знани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Электронная энциклопедия может быть копией печатной энциклопедии или оригинальным электронным изд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0 из 3672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637000"/>
            <a:ext cx="31035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Электронные энцикло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dic.academic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ru.wikipedia.org</a:t>
            </a: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Круго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 krugosve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Словарь — книга, содержащая собрание слов, расположенных по определённому принципу, и дающая сведения об их значениях, употреблении, происхождении, переводе на другой язык и т. п. или информацию о понятиях и предметах, ими обозначаемых, о деятелях в каких-либо областях науки, культуры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627280" y="4221000"/>
            <a:ext cx="432000" cy="43200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149720"/>
            <a:ext cx="576360" cy="431640"/>
          </a:xfrm>
          <a:prstGeom prst="line">
            <a:avLst/>
          </a:prstGeom>
          <a:ln w="442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4797360"/>
            <a:ext cx="32292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энциклопед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48360" y="4797360"/>
            <a:ext cx="3228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ингвистический</a:t>
            </a:r>
            <a:endParaRPr b="0" i="1" lang="en-US" sz="28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переводчик – это программа, позволяющая переводить тексты, с сохранением исходного форматирования, и электронные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4869000"/>
            <a:ext cx="8218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bbe0e3"/>
                </a:solidFill>
                <a:latin typeface="Informal Roman"/>
              </a:rPr>
              <a:t>Онлайновый словарь – это программа, которая обеспечивает перевод слов с русского языка на другой и на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25 из 622"/>
          <p:cNvPicPr/>
          <p:nvPr/>
        </p:nvPicPr>
        <p:blipFill>
          <a:blip r:embed="rId2"/>
          <a:srcRect l="3315" t="4973" r="4807" b="3978"/>
          <a:stretch/>
        </p:blipFill>
        <p:spPr>
          <a:xfrm rot="120000">
            <a:off x="3349800" y="2135160"/>
            <a:ext cx="4030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Informal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Онлайновый переводчик ПРОМ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 </a:t>
            </a: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translat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Times New Roman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Times New Roman"/>
              </a:rPr>
              <a:t>http://www.lingvo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30T08:08:46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